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50B-0007-4FE9-8E37-12CAA18F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DDA-18BB-4C9E-A4A9-E42F414B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B3C-B0C9-4A7B-B554-5749238A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991-D895-47B2-9797-76484463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ABE9-A8C0-42F2-818C-2043427E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7B9E-5D85-4996-A95D-CAC84AA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1EAF-2DB8-45BC-8B15-D7A3479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F6F-F715-4919-88DE-303B1B07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D0B4-3722-470B-9B0D-E915C0FB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520" y="202680"/>
            <a:ext cx="45147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8DA-5F62-4F54-BEAD-F11986E1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AEDA-AC97-4953-8B45-1C32991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6B1-3D2D-4771-BE94-6D84F5E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06A-70BB-4EE4-B6AA-1715FBD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B161-DF27-4BA4-A156-E7CB090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78B5-507B-4CDE-B75A-4058721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9E7B-7825-4E2D-AB73-8C1E5FEA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9F8-8EBD-4A4F-8921-9AA30786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3A-13F3-4F86-92CF-4F46E91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F66-BC7F-48A0-8E69-856BDC2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6B4-16B6-4543-A1AB-E18E594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520" y="202680"/>
            <a:ext cx="45147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8B8-FB58-43A5-B803-CF8AB3C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BCC-95C7-4DFB-BF23-FA10F533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8A3-00DB-4337-82CA-D93099A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104-C74F-4A06-A29F-8F62AE9A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3920"/>
            <a:ext cx="4343040" cy="160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017-6517-4349-8B09-58DED0FC63B0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654-5B60-4C74-8913-84EFC3FB365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78080"/>
            <a:ext cx="6861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3920"/>
            <a:ext cx="4343040" cy="160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00600" cy="22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5E2-5B98-4260-BA27-C674787205F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D618-2597-4A26-BEFC-B268CF1A86E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5410080"/>
            <a:ext cx="38102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cc"/>
                </a:solidFill>
                <a:latin typeface="Arial Narrow"/>
              </a:rPr>
              <a:t>. Il percorso della valutazione nel progetto PRO.VA.RE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43160" y="2539800"/>
            <a:ext cx="3314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idia B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DF40-77E9-4873-BCBD-47B6E360D4E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C851F43-175E-4E15-B573-1C3E00C0A9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 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380880"/>
            <a:ext cx="464796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ntualizzare il percorso della valutazione all’interno della scuola nei quattro ambiti considerati nel progetto PRO.VA.RE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azion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zione didattic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rendiment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rvizi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067-4480-4249-B51E-7E5D3469FD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33756-F668-4D95-9B47-117D85073A8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 </a:t>
            </a:r>
            <a:br>
              <a:rPr sz="4800"/>
            </a:br>
            <a:r>
              <a:rPr b="1" lang="it-IT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 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ole chiav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DIVISION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iettiv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est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ument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ERSITA’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uo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spettiv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ument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E03-17FD-483C-BBFA-A3F1835B6A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C114B-DBA5-43F3-BD4F-42AD2B0E0C4A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Aspetti da condividere</a:t>
            </a:r>
            <a:br>
              <a:rPr sz="4800"/>
            </a:br>
            <a:r>
              <a:rPr b="1" lang="it-IT" sz="3200" spc="-1" strike="noStrike">
                <a:solidFill>
                  <a:srgbClr val="ffffcc"/>
                </a:solidFill>
                <a:latin typeface="Arial Narrow"/>
              </a:rPr>
              <a:t>da parte di tutti i partecipanti a PRO.VA.RE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iettivi della valutazione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nalit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ggetti coinvolti nella valutazion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 di valutazion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umenti per la valu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67A-9A9A-46A7-B3A8-D01BA6027B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B0212-2EE0-4256-B7F9-6455D32B8F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La metodologia delle valutazione è la medesima</a:t>
            </a:r>
            <a:r>
              <a:rPr b="1" i="1" lang="it-IT" sz="3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, </a:t>
            </a:r>
            <a:r>
              <a:rPr b="1" i="1" lang="it-IT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ciò che cambia sono gli strumenti utilizzati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zione degli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tput attes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raccordo con gli obiettivi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zione degli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ndar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i riferimento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finizione delle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ole di decis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valori soglia per la valutazione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sura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trument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rifica della conformità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utazione: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fficienz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efficaci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l breve e nel lungo period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E6C-EA8B-4685-8A13-634EC32721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377B2-08DD-44B1-A5AD-ADEB79838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it-IT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 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7400" y="4572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M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a costruire e condividere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petti quantitativi e qualitativi: diversi strumenti e modalità di misura tra loro complementari.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empio</a:t>
            </a:r>
            <a:br>
              <a:rPr sz="2400"/>
            </a:b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tazione degli apprendiment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ndicatori di capacità didattica)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tti cognitiv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oscenze)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utazione disciplinar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umenti quantitativ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petti formativ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etenze, capacità)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utazione transdisciplinar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trumenti qualitativi e quantit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5C7-0946-4E64-95F8-D04B41E9E9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2A8FF-7E0D-4141-8948-6BC3975F9934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 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PETTIV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llettiva : valutazione quantitativ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e : valutazione quantitativa e qualit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50D-8EE4-432C-8728-DDF6436C5C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020C6-74BC-4FB6-81E4-C1E9497222D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-4548600"/>
            <a:ext cx="190800" cy="93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990720"/>
            <a:ext cx="45151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umentalità” dei dati quantitativi per approfondimenti di tipo qualitativo, ovvero i risultati delle prove disciplinari, assumono la funzione di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i quali devono essere valutati alla luce degli standard definiti in precedenza e devono rappresentare il punto di avvio per un’analisi qualitativa, in profondit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3F6-1318-406D-80A9-C0EF1843BC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184E5-8714-4CC2-ACF4-F9DF7361F6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1520" y="202680"/>
            <a:ext cx="4514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iversità da valorizzare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040" y="1752120"/>
            <a:ext cx="480060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i ordini di scuole</a:t>
            </a:r>
            <a:br>
              <a:rPr sz="2400"/>
            </a:b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i alunn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er età, maturità, potenzialità di apprendimento)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i obiettivi istituzional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alentemente formativi o cognitiv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e prospettiv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scolastico a livello nazionale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scolastico regionale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tituto / scuol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etto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lasse</a:t>
            </a:r>
            <a:br>
              <a:rPr sz="20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e rinviano all’u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i strument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i e qualit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F4B-FA0F-45A0-A8F2-ED56324DB3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F8372-66D9-4CDB-AA4D-8589308E6804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dia</cp:lastModifiedBy>
  <dcterms:modified xsi:type="dcterms:W3CDTF">2003-01-17T11:54:23Z</dcterms:modified>
  <cp:revision>6</cp:revision>
  <dc:subject/>
  <dc:title>Presentazione di PowerPoint</dc:title>
</cp:coreProperties>
</file>